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1E2-4696-4C44-8BCB-A4CE032F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D99-56E3-493C-9F7C-18C0C452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9C24-2DFE-4F83-96CC-C4B8CD87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F6FB-9CBA-4225-B766-E7F099F7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1434-A483-45D6-8DAA-B68D7C0C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EB8D-6477-4045-8FC0-CD816328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54F-2EE0-4D9E-A520-BF67D691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116-6BF7-418E-93C1-69796280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37A8-AADF-44C2-A9E3-09D1B1BC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ED9-1E12-43EB-BAF3-CBF68C89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9717-9F18-484D-9C3E-5A54F5D1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7F0-33FE-476C-B468-DF423794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8646-12E7-43BE-B31B-D9075AF192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404640"/>
            <a:ext cx="62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项目七  手机指令秘笈的使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2193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所谓手机指令密技是利用手机本身键盘，输入操作指令，不需任何检修仪对手机功能进行测试及程序设定。 通过手机指令密技操作，可以既简单又方便地解决软件故障及设置错误引起的故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743200"/>
            <a:ext cx="7010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例如：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诺基亚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手机使用密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输入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*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＃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06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＃，可显示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15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位数字的手机串号，它是手机的“机身号”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即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IMEI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输入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*#0000#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会显示几行内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第一行——软件版本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第二行——软件发布日期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第三行——手机型号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990720"/>
            <a:ext cx="6629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输入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*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＃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92702689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＃，显示内容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(1)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SerialNO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序列号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即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IMEI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产地码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(2)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Made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手机制造日期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(3)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Purchasingdate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购买日期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可自行输入购买日期，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mmyy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前面是月份，后面是年份，此选项一旦输入，则无法再更改。因此，在购买几时，如果你通过此秘技发现此项有记录，那这机器—定是旧的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(4)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Repaired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修理日期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(5)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TransferUserdata?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更改使用者数据？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；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00000" y="17002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输入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*337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＃激活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EFR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全速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模式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全速增强型编码模式，可改善话音质量但会耗电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输入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#337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＃关闭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EFR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全速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模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输入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*472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＃激活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HR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半速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模式，话音质量变低，但是大大延长电池使用时间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大概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3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％左右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需要网支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输入＃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472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＃关闭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HR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半速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模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38088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摩托罗拉手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机使用密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按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*#06#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可显示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IMEI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号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不包括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620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750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8200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对于摩托罗拉系列手机，如开机出现“输入开机密码”，当输入原设定密码“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1234'’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不能解密时，可尝试以下办法：当屏幕出现“输入开机密码”时按菜单键，再按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OK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键，输入“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000000”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此时，开机密码就会直接显示在显示屏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摩托罗拉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V68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型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CDMA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手机解锁指令：在键盘输入“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25*#”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再按录音键两次键入“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071082”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进入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Test mode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再进入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COMMON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向下选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lnutialize carrier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找编辑提示，复位选“是”，重新开机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摩托罗拉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V73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型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CDMA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手机解锁指令：在键盘键入“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25*#”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再按录音键三次，键入“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071082”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出现菜单选第三“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data port”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进入子菜单，选第二项“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Vodiagusbds”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后自动复位，密码变为原始密码，重新开机即可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3000" y="19810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以上仅例举部分手机的指令密技，希望能起到抛砖引玉之效，更多指令密技请见教材和有关资料。请学生们注意收集手机的指令密技，并恰当地使用它们。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3-05T06:24:18Z</dcterms:modified>
  <cp:revision>15</cp:revision>
  <dc:subject/>
  <dc:title>PowerPoint Presentation</dc:title>
</cp:coreProperties>
</file>